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A93-B7CF-4671-A6DD-042E2D7A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9D7-11B8-4786-BE6E-4FD5818B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883-11D6-4970-85C2-A55D75FE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6FF-1B8D-44E0-A909-99577FA9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2D4-0CA8-434D-8E75-9996FE60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9CF-E0A2-4564-A24D-25C01392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CA4-1610-447F-84B0-4AAC33ED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1F8-E9D8-450C-B016-A80633A6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F3A-F635-4CB8-B552-ADFCB866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079-81CB-429E-8ABF-0BBBB16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EF4-51AC-4C54-83AD-989CC7B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BF7-4695-441C-9A08-75E3CFCB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A4A8-659C-4714-8A9D-719BBB3384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نتم الذين اعتمدتم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في المسيح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قد لبستم المسي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35280" y="0"/>
            <a:ext cx="370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ميعكم أبناء الله بالإيمان ب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91440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ما تعلمون أن أجسادكم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ي هيكل الروح القد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جِّدوا اللهَ واحملوه في أجسادك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2:41:40Z</dcterms:created>
  <dc:creator>Charbel Azar</dc:creator>
  <dc:description/>
  <dc:language>en-US</dc:language>
  <cp:lastModifiedBy>-</cp:lastModifiedBy>
  <dcterms:modified xsi:type="dcterms:W3CDTF">2003-01-12T16:24:48Z</dcterms:modified>
  <cp:revision>5</cp:revision>
  <dc:subject/>
  <dc:title>نحن الذين اعتمدنا فيك أيّها المسيح، إحفظنا في ثوب ضيائك المجيد </dc:title>
</cp:coreProperties>
</file>